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A394-65EB-4FEF-BE6F-D66B0CC260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units, there are basic and advanced modules. The units are scaleable to multiple academic levels and can be used by faculty staff in whole or in part for teaching OS courses in academic institu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modules provide materials to incorporate into a complete undergraduate level OS course of one semester in length.  This covers the Windows operating system specific topics in the core and elective units at minimum (or basic) level of coverage of BOK as defined in CC200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ced modules provide materials to incorporate into an advanced (undergraduate or graduate) level OS course of one semester in length.  The module covers the Windows operating system specific topics in the core and elective units of CC2001 (extended level of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cturer may choose to use the basic course materials in order to augment an existing (undergraduate) OS course with information regarding the Windows operating system family. However, by combining the basic and advanced sections of the materials supplied herein, a potential lecturer may give a fully featured one semester (undergraduate) operating system course. Another option would be the usage of the advanced sections only in order to give a special (graduate) lecture or seminar on operating system internals and a comparison of architectural and design decisions and their impact for a number of different operating systems.</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Lab assignments are discussed throughout the Sections of the Curriculum module. Additional assignments may be found in the accompanying Lab manual.</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88CD-3C81-4239-AE63-253F3B7D31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22240" y="703440"/>
            <a:ext cx="5621400" cy="4216320"/>
          </a:xfrm>
          <a:prstGeom prst="rect">
            <a:avLst/>
          </a:prstGeom>
          <a:ln w="0">
            <a:noFill/>
          </a:ln>
        </p:spPr>
      </p:sp>
      <p:sp>
        <p:nvSpPr>
          <p:cNvPr id="139"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Internals Course” focuses on general-purpose operating systems technology and discusses techniques and approaches taken by the Microsoft Windows operating system family. Those techniques are compared to solutions found in Linux/UNIX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7469-DF45-4072-A381-91032118F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22240" y="703440"/>
            <a:ext cx="5621400" cy="4216320"/>
          </a:xfrm>
          <a:prstGeom prst="rect">
            <a:avLst/>
          </a:prstGeom>
          <a:ln w="0">
            <a:noFill/>
          </a:ln>
        </p:spPr>
      </p:sp>
      <p:sp>
        <p:nvSpPr>
          <p:cNvPr id="145"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58F97E-E9C2-4EFD-BC56-698760672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DA85EE-76C2-4F33-9CCB-9679ED251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DDD6C7-91DA-4465-941F-E66321F0B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5C25C0-731E-41C5-9F2F-121581F8CB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35398-5968-4F79-A259-CD1D0D175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F7D00-C1A2-4A2F-A7F6-4C34A498EF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A8D2B3-E830-40B1-91A6-BC5A019C4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B5B46-D944-4698-A43B-ED9236E052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23372-9DE2-461B-BAC5-6814D2F5A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D0572-7FB5-46E6-AAA8-B05C6E868E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A24DB-F4B5-4805-8F11-7C1DA1CF5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0EEB7D-1E44-4382-B085-6DB28B50C7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F55D-CF76-4CF6-92F8-E3AB6B87302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resources/sharedsource/Licensing/WindowsAcademic.mspx"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Windows Operating System Internals </a:t>
            </a:r>
            <a:br>
              <a:rPr sz="2400"/>
            </a:br>
            <a:r>
              <a:rPr b="0" lang="en-US" sz="2400" spc="-1" strike="noStrike">
                <a:solidFill>
                  <a:srgbClr val="ffffff"/>
                </a:solidFill>
                <a:latin typeface="Arial"/>
              </a:rPr>
              <a:t>Course Overview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7: Protection and Securit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 The Security Problem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Windows Security Components and Concep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indows Security Descriptors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4. Security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80BB65-3432-458E-AEDC-0E80975C7D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6: Device Management - The Input/Output System</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Principles of I/O System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 The Windows I/O System Componen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 Windows I/O Processing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Device Management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3D3953-B3D0-4237-986A-FBA3B6C2F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8: File System</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Background: Unix File System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The Windows File System (NTF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3. Encrypting File System Security in Windows OS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 NTFS – Recovery Support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Windows File and Directory Management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6. File System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06A918-2932-4927-BB7B-C367783EDC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9: </a:t>
            </a:r>
            <a:br>
              <a:rPr sz="4000"/>
            </a:br>
            <a:r>
              <a:rPr b="0" lang="en-US" sz="4000" spc="-1" strike="noStrike">
                <a:solidFill>
                  <a:srgbClr val="fe9900"/>
                </a:solidFill>
                <a:latin typeface="Arial"/>
              </a:rPr>
              <a:t>Real-time and Embedded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Introduction and Vocabulary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2. Real-Time Systems with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3. Embedded Systems with Windows XP Embedded (Electiv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16A07-5BA5-4CA1-B3A0-A7F5A1A021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0: Fault-tolerance</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Fault-tolerance (Elective) OS10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Fault-tolerance in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2. Fault-tolerance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61CF8D-B2AD-4599-BF15-5B9D200A9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1: Performance Evaluation</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System Performance Evaluation and Troubleshooting (Elective) OS1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 System Performa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 Boot/Startup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 Performance Evaluation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9AC559-49F3-441E-84D4-DE90B4A31C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12: Scripting</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Scripting (Elective) OS12</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 Windows Management Instru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2. The Registr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3. Scripting labs, quizzes and assignment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6B25D6-6C80-482B-B590-610F315DF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 A:</a:t>
            </a:r>
            <a:br>
              <a:rPr sz="4000"/>
            </a:br>
            <a:r>
              <a:rPr b="0" lang="en-US" sz="4000" spc="-1" strike="noStrike">
                <a:solidFill>
                  <a:srgbClr val="fe9900"/>
                </a:solidFill>
                <a:latin typeface="Arial"/>
              </a:rPr>
              <a:t>Windows Networking</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1. Networking Components in Windows OS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2. Windows Socket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3. Microsoft-specific extensions to Sockets and other Networking APIs (Supplementary/Advanced)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4. Networking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5891E6-D621-487D-913A-2C80E0A737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B:</a:t>
            </a:r>
            <a:br>
              <a:rPr sz="4000"/>
            </a:br>
            <a:r>
              <a:rPr b="0" lang="en-US" sz="4000" spc="-1" strike="noStrike">
                <a:solidFill>
                  <a:srgbClr val="fe9900"/>
                </a:solidFill>
                <a:latin typeface="Arial"/>
              </a:rPr>
              <a:t>Comparing the Linux and Windows Kernels</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omparing the Linux and Windows Kernels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1. Linux and Windows Comparison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2. Linux and Windows Comparison quizz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D3D332-0718-4F58-8168-A96B82D58A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C:</a:t>
            </a:r>
            <a:br>
              <a:rPr sz="4000"/>
            </a:br>
            <a:r>
              <a:rPr b="0" lang="en-US" sz="4000" spc="-1" strike="noStrike">
                <a:solidFill>
                  <a:srgbClr val="fe9900"/>
                </a:solidFill>
                <a:latin typeface="Arial"/>
              </a:rPr>
              <a:t>Windows – Unix Interoperability</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Windows – Unix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  File and Command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2.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Interoperability quizzes and assignment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F31993-9893-416D-A2FB-AD4BF352E9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Resource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443480-F173-4BFF-9935-30ABEA4363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a:t>
            </a:r>
            <a:endParaRPr b="0" lang="en-US" sz="4000" spc="-1" strike="noStrike">
              <a:solidFill>
                <a:srgbClr val="fe9900"/>
              </a:solidFill>
              <a:latin typeface="Arial"/>
            </a:endParaRPr>
          </a:p>
        </p:txBody>
      </p:sp>
      <p:sp>
        <p:nvSpPr>
          <p:cNvPr id="125" name="PlaceHolder 2"/>
          <p:cNvSpPr>
            <a:spLocks noGrp="1"/>
          </p:cNvSpPr>
          <p:nvPr>
            <p:ph/>
          </p:nvPr>
        </p:nvSpPr>
        <p:spPr>
          <a:xfrm>
            <a:off x="457200" y="1142640"/>
            <a:ext cx="8074080" cy="47242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is the course’s direct companion - requir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gives a platform-neutral overview on operating system design and implementation – suggest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6E8FFE-E1FC-43C2-AFED-015A4FCD2A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 (contd.)</a:t>
            </a:r>
            <a:endParaRPr b="0" lang="en-US" sz="4000" spc="-1" strike="noStrike">
              <a:solidFill>
                <a:srgbClr val="fe9900"/>
              </a:solidFill>
              <a:latin typeface="Arial"/>
            </a:endParaRPr>
          </a:p>
        </p:txBody>
      </p:sp>
      <p:sp>
        <p:nvSpPr>
          <p:cNvPr id="127" name="PlaceHolder 2"/>
          <p:cNvSpPr>
            <a:spLocks noGrp="1"/>
          </p:cNvSpPr>
          <p:nvPr>
            <p:ph/>
          </p:nvPr>
        </p:nvSpPr>
        <p:spPr>
          <a:xfrm>
            <a:off x="457200" y="1295280"/>
            <a:ext cx="8074080" cy="5105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book discusses select Windows programming problems and addresses the problem of portable programming by comparing Windows and Unix approach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rew S. Tanenbaum, Distributed Operating Systems, Prentice Hall, 1995.</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xt accompanies the course’s advanced modules and offers students an explanation of the concepts of distributed operating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ysinternals.com</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used in labs and experim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sdn.microsoft.co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resource for information on APIs required during work on assignm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FE6CCA3-FF4E-4957-A7C5-66BE036FB1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et of Windows kernel source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 see </a:t>
            </a:r>
            <a:r>
              <a:rPr b="0" lang="en-US" sz="2400" spc="-1" strike="noStrike" u="sng">
                <a:solidFill>
                  <a:srgbClr val="99cc66"/>
                </a:solidFill>
                <a:uFillTx/>
                <a:latin typeface="Arial"/>
                <a:hlinkClick r:id="rId4"/>
              </a:rPr>
              <a:t>http://www.microsoft.com/resources/sharedsource/Licensing/WindowsAcademic.mspx</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source code is available, the last slide in each Powerpoint refers to the relevant directories/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97983E-DDB7-4787-B023-109C7EEE8388}"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Information</a:t>
            </a:r>
            <a:endParaRPr b="0" lang="en-US" sz="4000" spc="-1" strike="noStrike">
              <a:solidFill>
                <a:srgbClr val="fe9900"/>
              </a:solidFill>
              <a:latin typeface="Arial"/>
            </a:endParaRPr>
          </a:p>
        </p:txBody>
      </p:sp>
      <p:sp>
        <p:nvSpPr>
          <p:cNvPr id="91" name="PlaceHolder 2"/>
          <p:cNvSpPr>
            <a:spLocks noGrp="1"/>
          </p:cNvSpPr>
          <p:nvPr>
            <p:ph/>
          </p:nvPr>
        </p:nvSpPr>
        <p:spPr>
          <a:xfrm>
            <a:off x="457200" y="1295280"/>
            <a:ext cx="8229600" cy="49276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Operating Systems Internals is a pool of material and resources  that explains operating systems (OS) concepts based on the Microsoft Windows XP and Windows Server 2003 operating system family, structured following the ACM/IEEE Operating System Body of Knowledge (“BOK”) as defined in Computing Curriculum 2001 project by the Joint IEEE and ACM Task Force (“CC2001”).</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urriculum is based on the book Windows Internals, 4th edition (Microsoft Press, 2004) by Mark Russinovich and David Solomon.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ments, lab descriptions, quizzes, and assignments, which are an integral part of the course materials, have been tested over the last five years in context of an Operating Systems Architecture class taught by Andreas Polze at Humboldt University of Berlin and Hasso-Plattner-Institute at University Potsdam, German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82A9A3-8951-4BCA-B32D-F503A4483D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a:t>
            </a:r>
            <a:endParaRPr b="0" lang="en-US" sz="4000" spc="-1" strike="noStrike">
              <a:solidFill>
                <a:srgbClr val="fe9900"/>
              </a:solidFill>
              <a:latin typeface="Arial"/>
            </a:endParaRPr>
          </a:p>
        </p:txBody>
      </p:sp>
      <p:sp>
        <p:nvSpPr>
          <p:cNvPr id="93"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Cor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Electiv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ementary uni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C7E0F4-0E51-4A07-812E-0E168BB40D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 </a:t>
            </a:r>
            <a:br>
              <a:rPr sz="4000"/>
            </a:br>
            <a:r>
              <a:rPr b="0" lang="en-US" sz="4000" spc="-1" strike="noStrike">
                <a:solidFill>
                  <a:srgbClr val="fe9900"/>
                </a:solidFill>
                <a:latin typeface="Arial"/>
              </a:rPr>
              <a:t>Overview of Operating System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indows Operating System Internals Course Overview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The Evolution of Operating Systems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Windows Operating System Family – Concepts &amp; Tools (Cor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02C40F-E330-4B56-98FF-E00D5E1EDE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2: </a:t>
            </a:r>
            <a:br>
              <a:rPr sz="4000"/>
            </a:br>
            <a:r>
              <a:rPr b="0" lang="en-US" sz="4000" spc="-1" strike="noStrike">
                <a:solidFill>
                  <a:srgbClr val="fe9900"/>
                </a:solidFill>
                <a:latin typeface="Arial"/>
              </a:rPr>
              <a:t>Operating System Principles</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Structuring of the Windows Operating System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 Windows Core System Mechanism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 Windows on Windows - OS  Personalities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he Windows API – Naming Conventions, Types (Cor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S Principles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3AA8BC-8A27-4C53-935B-92005DB5B2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3: Concurrenc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 (Core)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Inter-Process Communic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oncurrency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FF12F01-009D-47DE-B6D3-12BD1C329B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4: Scheduling and Dispatch</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 (Core)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Scheduling and Dispatch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443F032-CCA7-4185-BBD3-B5DADAB63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5: Mem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Memory Management for Multiprogramming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Windows Memory Management Fundamental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 Virtual Address Transl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Physical Memory Management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Memory Management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631BE59-2221-4331-979E-7B0F3521FB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6:59Z</dcterms:created>
  <dc:creator>David A. Solomon, Mark E. Russinovich, and Andreas Polze</dc:creator>
  <dc:description/>
  <cp:keywords/>
  <dc:language>en-US</dc:language>
  <cp:lastModifiedBy>David Solomon</cp:lastModifiedBy>
  <dcterms:modified xsi:type="dcterms:W3CDTF">2006-02-08T00:02:18Z</dcterms:modified>
  <cp:revision>27</cp:revision>
  <dc:subject>Windows Operating Systems Internals Course</dc:subject>
  <dc:title>Unit OS1: Windows Operating Systems Internals - Course Overview</dc:title>
</cp:coreProperties>
</file>